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58A8-51D1-4BAE-A130-DA8106B146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lcome, ok this is picaxe etc, from peru to pre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k, so as this is my constantly developing project, I have some dev ideas for it, [click] First as I said earlier I want to change it into a better language, mainly so im not tied to windows. Then I have to fix some hardware bugs, [click] one of the biggest s that you only get 10-20% maximum power from the drive source, [click] I then want to add hardware inputs so that for example the system brings up a message when a button is pressed, and lastly [click] I want to add some more complex programmability to the system, so it can react to inputs and do things for a certain amount of time and then chan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Sorry for the time its taken and )[click] any ques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k, so first some apologies, [click] I am new to this and generally rubbish, so sorry for the suckyness, I am new to this. I wouldn’t be doing this if it wasn’t for elmo[click], next [click]sorry for the microsoftness, but ill come back to some of this later and just before I actually say something useful im[click] sorry if I go on for too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, in summer 2005 I went to peru[click], and being isolated from my computer I began to think[click] (scary thought)[click], I had a thought, wouldn’t It be cool to be able to control hornby trains with a computer[click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 with all my free time I started mentally prototyping[click] so by the time I got home a had a good idea how I was going to do it[click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k so I need to introduce picaxe, [click]picaxe is a standard PIC (Programmable Integrated Circuit) Chip preloaded with bootstrap code[click] to make it fluffy and easy for people to use, you build your interface circuit for your hardware and [click]use your serial port to download your program into the chip while it is in the circuit[click], programs are written in a basic like language [click] in the programming editor[click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k so it’s a simple language, as I said it has a basic like language,[click] with the same basic syntax, with additions, such as [click] high and [click]low, to surprise surprise , change the output high and low, and there are more complex commands, twho of which are [click] pwmout which allows sort of an analog ish output and [click] serin which allows input of serial data on a pin for example text from your computer terminal, there is also a serout command for doing the opposite of serin and printing to the remote term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, when I got back I started with hyper terminal [click] and some basic serin commands and some high and low commands so I could turn an led on and off from the terminal, [click] WOW (not the game), [click] Next I modifyed the serin to take an input so I could then use the pwm so I could set the brightness of the led, [click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click] So then I added some transistors circuitry and a second power supply, and I have a variable speed motor controlled from my PC, [click] then I added a relay to control the direction and we get to my current circuit and pic program (or close enough) now it gets nasty as at the time the only language I knew with libraries to do what I needed was VB [click], so im sorry I am planning to change it to something better, probably java as that’s better and I know it and its platform independent is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now I used some of the .net libraries, and [click] wrote a basic interface for the serial port with text boxes for speed and a tick box for direction, that worked!, then hacked with prototype 1 till it died, at which point I wrote prototype two, [click] that has things like error checking, transition checking, and it checks wheatear it is conned to the hardware, and has radio buttons and sliders for the direction and spe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k so then I added some threading so you can get smooth changes and things on a delay [click], and network support[click] so you don't have to connect the device to the control computer it can be connected to a remote machine and controlled over a network, [click] and its slowly getting whizz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8C9B-4C87-439A-B1C7-959D66288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A3A8-1E12-4AB6-88CC-B89DDC8D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EAB9-1CC8-48AF-8F75-F5F2A7048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6E71-3130-404E-AB7D-009272FFF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1A6B-5436-4FB0-8634-C1CB76EAE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FD8FB-1C2C-40D8-BD77-E2D04A4A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2FDA-9094-45C0-95ED-5206B05E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46375-1438-4EF9-915B-9FE15B8C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6FAE-80A3-49EF-B014-00514679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5DF13-ABFD-4FFB-B85E-F5A19C2D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7D3FE-9CC0-4C37-8D57-7574C119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19CF-29A2-4E7B-B158-C43E17FB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BCC7-58AD-4BD2-B3B9-9D665BD0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2F339-ED65-4BC9-BC0A-A4106744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17674-9230-41C5-9271-01456F8D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AA95-1B9B-4D4B-8DC2-95CCCDBB8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96D0-653A-46B6-855F-526AA836E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E997-B0BD-41A5-B640-A6DF7D1A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7630-6867-4389-B168-13E142C5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97F6-1658-4FDE-86ED-A9B026D8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8051-42A8-43B4-924E-2AB32264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538A-6E72-488B-8BFF-375A59E0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5EBE-9098-4102-AB07-FB84840B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FDE7-8C85-4C74-BE9F-971E08B1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1199-B10A-491A-BB35-810EF2F1D10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D289-A9CB-43C2-96E5-546F115A9A9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ICAXE etc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rom Peru to pres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im(othy) Clark (eclips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0840"/>
            <a:ext cx="6870600" cy="63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0000"/>
                </a:solidFill>
                <a:latin typeface="Comic Sans MS"/>
              </a:rPr>
              <a:t>DEMO!</a:t>
            </a:r>
            <a:endParaRPr b="0" lang="en-US" sz="14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43200000">
                                      <p:cBhvr>
                                        <p:cTn id="28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N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ange Langua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x transistor bu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d input dete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d major programm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0840"/>
            <a:ext cx="6870600" cy="63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Any Questions?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olog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rry for the suckyness, I am new to this!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rry for the microsoftne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rry if I go on for too lo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-3927600" y="1828800"/>
            <a:ext cx="392760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 Deepest Peru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ru 200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mmm computer contro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ime in deepest Peru = lots of things to do when I got bac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127240" y="1881360"/>
            <a:ext cx="5162400" cy="4014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341520" y="1925640"/>
            <a:ext cx="288792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w onto PICAX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ICAXE = PIC + Bootstra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ICAXE = fluffy + cudd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wnload program in circu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SIC like langua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gram Edit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69960" y="650880"/>
            <a:ext cx="692640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ASIC like syntax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ow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wmout 2, 100, w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rin 3, N2400, b0, #w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re to start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yperTermin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rial in + PW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144000" y="677880"/>
            <a:ext cx="8170920" cy="57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100"/>
                            </p:stCondLst>
                            <p:childTnLst>
                              <p:par>
                                <p:cTn id="170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600"/>
                            </p:stCondLst>
                            <p:childTnLst>
                              <p:par>
                                <p:cTn id="181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43200000">
                                      <p:cBhvr>
                                        <p:cTn id="182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"/>
                            </p:stCondLst>
                            <p:childTnLst>
                              <p:par>
                                <p:cTn id="196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43200000">
                                      <p:cBhvr>
                                        <p:cTn id="197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rove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+ more circuitry et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+ even more circuitry et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wwww Visual Basi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w for the U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948200" y="2109960"/>
            <a:ext cx="3095640" cy="30952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190520" y="2000160"/>
            <a:ext cx="276228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ow it gets whizz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023840" y="2109960"/>
            <a:ext cx="3095640" cy="30952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mooth Chan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twork Contr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re to come y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10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04:08:46Z</dcterms:created>
  <dc:creator>Timothy Clark</dc:creator>
  <dc:description/>
  <dc:language>en-US</dc:language>
  <cp:lastModifiedBy>Tim</cp:lastModifiedBy>
  <dcterms:modified xsi:type="dcterms:W3CDTF">2008-02-04T02:39:25Z</dcterms:modified>
  <cp:revision>17</cp:revision>
  <dc:subject/>
  <dc:title>PICAXE etc</dc:title>
</cp:coreProperties>
</file>