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009-732A-4D58-9B3C-9D4D7D0E7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ome, ok this is picaxe etc, from peru to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, so as this is my constantly developing project, I have some dev ideas for it, [click] First as I said earlier I want to change it into a better language, mainly so im not tied to windows. Then I have to fix some hardware bugs, [click] one of the biggest s that you only get 10-20% maximum power from the drive source, [click] I then want to add hardware inputs so that for example the system brings up a message when a button is pressed, and lastly [click] I want to add some more complex programmability to the system, so it can react to inputs and do things for a certain amount of time and then cha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orry for the time its taken and )[click]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, so first some apologies, [click] I am new to this and generally rubbish, so sorry for the suckyness, I am new to this. I wouldn’t be doing this if it wasn’t for elmo[click], next [click]sorry for the microsoftness, but ill come back to some of this later and just before I actually say something useful im[click] sorry if I go on for too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, in summer 2005 I went to peru[click], and being isolated from my computer I began to think[click] (scary thought)[click], I had a thought, wouldn’t It be cool to be able to control hornby trains with a computer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ith all my free time I started mentally prototyping[click] so by the time I got home a had a good idea how I was going to do it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I need to introduce picaxe, [click]picaxe is a standard PIC (Programmable Integrated Circuit) Chip preloaded with bootstrap code[click] to make it fluffy and easy for people to use, you build your interface circuit for your hardware and [click]use your serial port to download your program into the chip while it is in the circuit[click], programs are written in a basic like language [click] in the programming editor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it’s a simple language, as I said it has a basic like language,[click] with the same basic syntax, with additions, such as [click] high and [click]low, to surprise surprise , change the output high and low, and there are more complex commands, twho of which are [click] pwmout which allows sort of an analog ish output and [click] serin which allows input of serial data on a pin for example text from your computer terminal, there is also a serout command for doing the opposite of serin and printing to the remote 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, when I got back I started with hyper terminal [click] and some basic serin commands and some high and low commands so I could turn an led on and off from the terminal, [click] WOW (not the game), [click] Next I modifyed the serin to take an input so I could then use the pwm so I could set the brightness of the led, [clic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click] So then I added some transistors circuitry and a second power supply, and I have a variable speed motor controlled from my PC, [click] then I added a relay to control the direction and we get to my current circuit and pic program (or close enough) now it gets nasty as at the time the only language I knew with libraries to do what I needed was VB [click], so im sorry I am planning to change it to something better, probably java as that’s better and I know it and its platform independent 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ow I used some of the .net libraries, and [click] wrote a basic interface for the serial port with text boxes for speed and a tick box for direction, that worked!, then hacked with prototype 1 till it died, at which point I wrote prototype two, [click] that has things like error checking, transition checking, and it checks wheatear it is conned to the hardware, and has radio buttons and sliders for the direction a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k so then I added some threading so you can get smooth changes and things on a delay [click], and network support[click] so you don't have to connect the device to the control computer it can be connected to a remote machine and controlled over a network, [click] and its slowly getting whizz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AC0-5F9F-4034-AE50-4DA4A101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6C7-774D-4CE5-8828-ADB2EE4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927-0023-4D7A-9706-C6A00C39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E36-C3A9-4BF3-B07D-7560E19F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571F-26B9-4287-BACD-364C9812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6C54-D153-4DF0-BA61-B4642B5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1BD5-E9A8-438F-B427-496A2F1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103-DB82-4479-BB41-7ACE9B5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0066-74D8-4952-8403-CB110A88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3704-73C0-4731-898A-35B21044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1912-6F16-464F-9209-2BD950AA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4EE-B014-403B-BC2E-8219A9B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5823-F31B-434D-A62B-A157986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4E54-4317-4459-912E-C848547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A7A9-68E5-4C66-B3E2-7D91C45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1B74-778C-458C-955D-2550765D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F45-ADA7-4147-89E5-92E8ECE4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B05-33A2-4873-A0B1-AF58A16C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F00-6387-4F5A-8387-EBEDDAD9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0A8-4B4E-40F2-A3F7-85CBED4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DB3-F71E-438A-991B-7219608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AF4-0A03-4964-BAEF-2FD6ACF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8C6-972F-4208-8D50-FC397C3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27B-014D-4E49-A5E7-4AD19A3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A98-421E-43B1-96C6-BCF68CFC8C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781-7ACB-4362-BD59-3B18BFA009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CAXE etc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om Peru to pre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(othy) Clark (eclip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63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omic Sans MS"/>
              </a:rPr>
              <a:t>DEMO!</a:t>
            </a:r>
            <a:endParaRPr b="0" lang="en-US" sz="1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28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N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x transistor bu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input det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major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63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olo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for the suckyness, I am new to thi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for the microsoft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rry if I go on for too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927600" y="1828800"/>
            <a:ext cx="39276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Deepest Per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u 20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mmm computer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me in deepest Peru = lots of things to do when I got 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27240" y="1881360"/>
            <a:ext cx="5162400" cy="401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341520" y="1925640"/>
            <a:ext cx="28879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onto PICAX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AXE = PIC + Bootstra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AXE = fluffy + cud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load program in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like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 Edi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9960" y="650880"/>
            <a:ext cx="69264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ASIC like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w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wmout 2, 100, w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in 3, N2400, b0, #w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ta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Termi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in + PW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0" y="677880"/>
            <a:ext cx="81709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8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19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 more circuitry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 even more circuitry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wwww Visual Ba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for the U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48200" y="2109960"/>
            <a:ext cx="3095640" cy="3095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90520" y="2000160"/>
            <a:ext cx="2762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w it gets whizz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23840" y="2109960"/>
            <a:ext cx="3095640" cy="3095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ooth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to come y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08:46Z</dcterms:created>
  <dc:creator>Timothy Clark</dc:creator>
  <dc:description/>
  <dc:language>en-US</dc:language>
  <cp:lastModifiedBy>Tim</cp:lastModifiedBy>
  <dcterms:modified xsi:type="dcterms:W3CDTF">2008-02-04T02:39:25Z</dcterms:modified>
  <cp:revision>17</cp:revision>
  <dc:subject/>
  <dc:title>PICAXE etc</dc:title>
</cp:coreProperties>
</file>